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E02-7576-4E99-90A5-F39C812B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76F-9D2B-47BE-81BD-62D877F1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B55-49EB-45D2-A47D-C54642F5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41E-AE16-435F-8AA1-3C7317BA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EFE-7583-4F45-A732-111078F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597-DD31-4811-8885-FD58DA5B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DB0-5FF5-4A36-A7F3-16C8025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BF4-E2A2-49B8-AF41-C151B7C9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430-9328-40A6-9E2B-8ADBDC7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360-6962-42F7-8337-8EFB877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C09-83CB-482E-BC0E-DC3169B5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FDE-9883-4946-9BB3-4819BAC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2C21-2A8E-4262-A9AE-A43B9DDA2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alot.com/res?src_id=11347&amp;camp_id=978&amp;tb_version=2.5.4.463&amp;pr=tbar&amp;client_id=D48A60A001CA4D633B41FCF7&amp;install_time=2009-10-15T01%3A50%3A00%2B0000&amp;q=peace++now++israel&amp;page=0&amp;imgUrl=http%3A%2F%2Flrd.yahooapis.com%2F_ylc%3DX3oDMTVnNDRpY200BF9TAzIwMjMxNTI3MDIEYXBwaWQDZDBwTVFfdlYzNEY0VkJTVmhIcXAyV1F6UjRCTElKVjRfNUtLNU5GMWZBcnQxaFhnUjVvVEs0ZFZyd1d3cmh2VEJmNWpuQS0tBGNsaWVudANib3NzBHNlcnZpY2UDQk9TUwRzbGsDdGl0bGUEc3JjcHZpZANScE00NG1LSWNycV9RVXF6elk2bWJWRHEwRXdMYVVybW50RUFCa3NY%2FSIG%3D11p8mifof%2F%2A%2Ahttp%253A%2F%2Fstatic.flickr.com%2F44%2F110202877_039dd92fbf.jpg&amp;url=http%3A%2F%2Fstatic.flickr.com%2F44%2F110202877_039dd92fbf.jpg&amp;sourceUrl=http%3A%2F%2Fwww.flickr.com%2Fphotos%2Fgyuval%2F110202877%2F&amp;thumbUrl=http%3A%2F%2Fthm-a01.yimg.com%2Fimage%2F5283cb4eb192bf24&amp;name=110202877+039dd92fbf+jpg&amp;detail=500+x+332+%7C+180.9kB&amp;thumbH=96&amp;thumbW=145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alot.com/res?src_id=11347&amp;camp_id=978&amp;tb_version=2.5.4.463&amp;pr=tbar&amp;client_id=D48A60A001CA4D633B41FCF7&amp;install_time=2009-10-15T01%3A50%3A00%2B0000&amp;q=coffee++with+milk&amp;page=0&amp;imgUrl=http%3A%2F%2Flrd.yahooapis.com%2F_ylc%3DX3oDMTVnMW0yZGlmBF9TAzIwMjMxNTI3MDIEYXBwaWQDZDBwTVFfdlYzNEY0VkJTVmhIcXAyV1F6UjRCTElKVjRfNUtLNU5GMWZBcnQxaFhnUjVvVEs0ZFZyd1d3cmh2VEJmNWpuQS0tBGNsaWVudANib3NzBHNlcnZpY2UDQk9TUwRzbGsDdGl0bGUEc3JjcHZpZANJZTVvckdLSWNyb1VwS3lJbWluTXUzSTQwRXdLZGtybW9PQUFBT3lu%2FSIG%3D11s7k0pbl%2F%2A%2Ahttp%253A%2F%2Fstatic.flickr.com%2F3016%2F2875056070_d4b25e3b13.jpg&amp;url=http%3A%2F%2Fstatic.flickr.com%2F3016%2F2875056070_d4b25e3b13.jpg&amp;sourceUrl=http%3A%2F%2Fwww.flickr.com%2Fphotos%2Fvegefoodie%2F2875056070%2F&amp;thumbUrl=http%3A%2F%2Fthm-a03.yimg.com%2Fimage%2Fae553f3c0e6cb4d8&amp;name=2875056070+d4b25e3b13+jpg&amp;detail=500+x+375+%7C+103.0kB&amp;thumbH=108&amp;thumbW=145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nfhd8sd/**http%3A//www.goodnessdirect.co.uk/detail/714625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q23u26q/**http%3A//us.inmagine.com/img/pixtal/pts000/WE000036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aW5mMWxiBF9TAzIwMjMxNTI3MDIEYXBwaWQDZDBwTVFfdlYzNEY0VkJTVmhIcXAyV1F6UjRCTElKVjRfNUtLNU5GMWZBcnQxaFhnUjVvVEs0ZFZyd1d3cmh2VEJmNWpuQS0tBGNsaWVudANib3NzBHNlcnZpY2UDQk9TUwRzbGsDdGl0bGUEc3JjcHZpZANicXdVOEdLSWNyckhSbU5sTUY1TlZIQzkwRXdMYlVybW04c0FCRkh0/SIG=12ifq04un/**http%3A//www.tropicana.com/TRP_ProductInformation/images/pa_GrapefruitJuic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ימו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4762440" cy="374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00400" y="1596960"/>
            <a:ext cx="5372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 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48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רוצ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0098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657600"/>
            <a:ext cx="24386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קצ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187632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543480" cy="26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2933640"/>
            <a:ext cx="3695760" cy="27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19720" y="52560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652760"/>
            <a:ext cx="230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5400" spc="-1" strike="noStrike" u="sng">
                <a:solidFill>
                  <a:srgbClr val="000000"/>
                </a:solidFill>
                <a:uFillTx/>
                <a:latin typeface="Arial"/>
              </a:rPr>
              <a:t>ע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חלב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828800"/>
            <a:ext cx="4114800" cy="3825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בלי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חל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I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762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9240" y="1600200"/>
            <a:ext cx="63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עם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__ __ __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לי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46339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   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 __ __  __ 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רק 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14840" y="2719440"/>
            <a:ext cx="3103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__ __ __ 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43862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יפה  __ __ __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עיר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5181480" cy="345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90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284004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סע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19368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סליח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334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ה  __ __ __ __   ק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130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  __ __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4381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?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לאן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 __ __  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חיפה  </a:t>
            </a:r>
            <a:r>
              <a:rPr b="0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762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קאגו  ג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905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לימ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057400"/>
            <a:ext cx="32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שכולי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6668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7:00:21Z</dcterms:created>
  <dc:creator>Preferred Customer</dc:creator>
  <dc:description/>
  <dc:language>en-US</dc:language>
  <cp:lastModifiedBy>aschlezinger</cp:lastModifiedBy>
  <dcterms:modified xsi:type="dcterms:W3CDTF">2010-11-04T20:54:10Z</dcterms:modified>
  <cp:revision>5</cp:revision>
  <dc:subject/>
  <dc:title>מה  נשמע  ?  </dc:title>
</cp:coreProperties>
</file>